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9314-77D3-4D32-9486-A86EC0BA7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038-FDBB-47E4-B561-C84C8EBEB14D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7211-C8F4-44D9-BACA-C115D2CE3260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F9C0-F5FB-4B3F-A56D-7C4308F7F029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99CB-4633-4358-A907-C2EED45099FE}" type="slidenum"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798-5EE8-465F-843B-2413306A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2D2-143D-4900-8885-AEC77B57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6F3-5D32-489B-A04D-95BDDF69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08C-183C-4ACF-AED1-43BC8D9B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25A8-8504-4C5F-BE5B-94C455B2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2F13-5CF5-4A13-B616-2E1F6AFD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2B97-F376-4A0A-90F7-7F524E15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0552-8516-4FDF-AB4F-2E009C2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5B0-A25E-402C-B2E5-3E33C3A0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3D87-4EA9-4168-A328-4D618106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DDF6-AC9C-49A5-82B1-9B00DF2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697-8FD0-452E-ABD0-3120D36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11CF-DF61-4F4C-BEC5-FDF86581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A3F5-444B-44EF-BDB0-6A6C590F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A4DA-4752-4EF0-B0C3-D931B5A4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4519-FDAF-457C-92C4-B8F3050E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16C-854D-4424-AD05-81AEAE6C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DDC-55BB-4530-80A3-3D88F745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E97-2FA5-4B28-80A1-CA6B79E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6ED-88CD-4D51-94C7-E4805FD8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0BC-83CE-4CFD-881F-B9BC473A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0ED-7A1C-4CBA-A135-BA4D59C9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812-7BE0-486B-AA87-651E2BD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88C-71DA-48FE-911E-AEBB3582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A6A3-F134-469A-A27E-EF836043CBA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9245-8D87-4ECA-A032-7BDBA5DE4DA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Steps To Graphical Analy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aphs are one of the tools of the trade for Physicists. There are three basic things you can do with a grap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. You can __________off the 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You can find ________ of the 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You can calculate the _____ between the curve and the x-axis of the grap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ASS ACTIVIT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struct an accurate graph of the following dat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4038480"/>
          <a:ext cx="6172200" cy="20606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(y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m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-1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-5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+5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+2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t(x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s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0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2.0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. What is the objects position at t = 3.0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What is the change in position between       t = 6.0 s and t = 10.0 s 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Determine the slope of the graph us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 = 0.0 s and t = 6.0 s . Repeat using                   t = 2.0 s and t = 12.0 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. What property of motion is represented by the slope?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lope Formul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lope 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rise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 – y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d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 – d</a:t>
            </a:r>
            <a:r>
              <a:rPr b="0" lang="en-US" sz="3200" spc="-1" strike="noStrike" u="sng" baseline="-25000">
                <a:solidFill>
                  <a:srgbClr val="5b5249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un    x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- x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2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22:58:01Z</dcterms:created>
  <dc:creator>district 17</dc:creator>
  <dc:description/>
  <dc:language>en-US</dc:language>
  <cp:lastModifiedBy>Administrator</cp:lastModifiedBy>
  <cp:lastPrinted>2009-04-22T19:24:48Z</cp:lastPrinted>
  <dcterms:modified xsi:type="dcterms:W3CDTF">2010-09-04T19:12:47Z</dcterms:modified>
  <cp:revision>7</cp:revision>
  <dc:subject/>
  <dc:title>Three Steps To Graphical Analysis</dc:title>
</cp:coreProperties>
</file>